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B84-DF75-45D9-8FD3-8CDCC455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C4F-D253-47A0-ADC2-B1B38A72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E5E-4466-41A1-AD9B-56C312E8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72D-3911-4786-A0CB-7B7DA069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F06-35FE-404C-BD8E-14F152C6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96A-BE7F-4660-8B6F-78739884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31F-1290-404C-BD1C-234BFBF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D95-31C2-4815-B214-6A68CE46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DB0-EEE3-4E15-8CA1-071C815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129-F132-4882-A146-A4A2BEB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972-9D5D-4C1F-AA39-93121668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2F5-3052-46AF-B894-86890F8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47AF-7C1E-4AD1-B0D8-1A632CED4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07152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ssembled 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erb Kr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upplementary resources collected from the World Wide Web thanks to the many provi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429000" y="1928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any combustible material - solid, liquid or gas. Most solids and liquids must vaporize before they will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Sufficient oxygen must be present in the atmosphere surrounding the fuel for fire to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T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hemical, exothermic reactio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This reaction can occur when all three of the above elements are present in the proper conditions and proportions. Fire (rapid oxidisation) is the result of this chemical re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928800" y="542916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ire extinguishers put out fire by taking away one or more elements of the fire triangle/tetrahedr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1143000" y="35002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res are categorized into classes according to the type of fuel or the dangers pres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should be used on fires involving flammable liquids, such as grease,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</a:t>
            </a:r>
            <a:r>
              <a:rPr b="0" lang="en-AU" sz="24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fx-class-D.gif"/>
          <p:cNvPicPr/>
          <p:nvPr/>
        </p:nvPicPr>
        <p:blipFill>
          <a:blip r:embed="rId4"/>
          <a:stretch/>
        </p:blipFill>
        <p:spPr>
          <a:xfrm>
            <a:off x="7715160" y="364320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fx-class-D.gif"/>
          <p:cNvPicPr/>
          <p:nvPr/>
        </p:nvPicPr>
        <p:blipFill>
          <a:blip r:embed="rId4"/>
          <a:stretch/>
        </p:blipFill>
        <p:spPr>
          <a:xfrm>
            <a:off x="7715160" y="3643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x-class-E.gif"/>
          <p:cNvPicPr/>
          <p:nvPr/>
        </p:nvPicPr>
        <p:blipFill>
          <a:blip r:embed="rId5"/>
          <a:stretch/>
        </p:blipFill>
        <p:spPr>
          <a:xfrm>
            <a:off x="285840" y="457200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fx-class-D.gif"/>
          <p:cNvPicPr/>
          <p:nvPr/>
        </p:nvPicPr>
        <p:blipFill>
          <a:blip r:embed="rId4"/>
          <a:stretch/>
        </p:blipFill>
        <p:spPr>
          <a:xfrm>
            <a:off x="7715160" y="3643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fx-class-E.gif"/>
          <p:cNvPicPr/>
          <p:nvPr/>
        </p:nvPicPr>
        <p:blipFill>
          <a:blip r:embed="rId5"/>
          <a:stretch/>
        </p:blipFill>
        <p:spPr>
          <a:xfrm>
            <a:off x="285840" y="4572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fx-class-F.gif"/>
          <p:cNvPicPr/>
          <p:nvPr/>
        </p:nvPicPr>
        <p:blipFill>
          <a:blip r:embed="rId6"/>
          <a:stretch/>
        </p:blipFill>
        <p:spPr>
          <a:xfrm>
            <a:off x="7715160" y="542916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714680" y="100008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under air pressure) 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fx-water.jpg"/>
          <p:cNvPicPr/>
          <p:nvPr/>
        </p:nvPicPr>
        <p:blipFill>
          <a:blip r:embed="rId1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714680" y="100008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7f7f7f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f7f7f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6" descr="fx-powder.jpg"/>
          <p:cNvPicPr/>
          <p:nvPr/>
        </p:nvPicPr>
        <p:blipFill>
          <a:blip r:embed="rId1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fx-water.jpg"/>
          <p:cNvPicPr/>
          <p:nvPr/>
        </p:nvPicPr>
        <p:blipFill>
          <a:blip r:embed="rId2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192852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 order to understand how fire extinguishers work, you first need to know a little bit about f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714680" y="100008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5" descr="fx-foam.jpg"/>
          <p:cNvPicPr/>
          <p:nvPr/>
        </p:nvPicPr>
        <p:blipFill>
          <a:blip r:embed="rId1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fx-powder.jpg"/>
          <p:cNvPicPr/>
          <p:nvPr/>
        </p:nvPicPr>
        <p:blipFill>
          <a:blip r:embed="rId2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fx-water.jpg"/>
          <p:cNvPicPr/>
          <p:nvPr/>
        </p:nvPicPr>
        <p:blipFill>
          <a:blip r:embed="rId3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1714680" y="1000080"/>
            <a:ext cx="578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4" descr="fx-co2.jpg"/>
          <p:cNvPicPr/>
          <p:nvPr/>
        </p:nvPicPr>
        <p:blipFill>
          <a:blip r:embed="rId1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x-foam.jpg"/>
          <p:cNvPicPr/>
          <p:nvPr/>
        </p:nvPicPr>
        <p:blipFill>
          <a:blip r:embed="rId2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fx-powder.jpg"/>
          <p:cNvPicPr/>
          <p:nvPr/>
        </p:nvPicPr>
        <p:blipFill>
          <a:blip r:embed="rId3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fx-water.jpg"/>
          <p:cNvPicPr/>
          <p:nvPr/>
        </p:nvPicPr>
        <p:blipFill>
          <a:blip r:embed="rId4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714680" y="1000080"/>
            <a:ext cx="578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- 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fx-water.jpg"/>
          <p:cNvPicPr/>
          <p:nvPr/>
        </p:nvPicPr>
        <p:blipFill>
          <a:blip r:embed="rId5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714680" y="1000080"/>
            <a:ext cx="5786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- 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fx-water.jpg"/>
          <p:cNvPicPr/>
          <p:nvPr/>
        </p:nvPicPr>
        <p:blipFill>
          <a:blip r:embed="rId5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fx-VaporizingLiquid .jpg"/>
          <p:cNvPicPr/>
          <p:nvPr/>
        </p:nvPicPr>
        <p:blipFill>
          <a:blip r:embed="rId6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714680" y="1000080"/>
            <a:ext cx="5786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lon (BCF)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- Do not use now illegal, environmental haz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 Ye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G:\OHS\FireQuiz\media\BCF.jpg"/>
          <p:cNvPicPr/>
          <p:nvPr/>
        </p:nvPicPr>
        <p:blipFill>
          <a:blip r:embed="rId5"/>
          <a:stretch/>
        </p:blipFill>
        <p:spPr>
          <a:xfrm>
            <a:off x="500040" y="5286240"/>
            <a:ext cx="83808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fx-water.jpg"/>
          <p:cNvPicPr/>
          <p:nvPr/>
        </p:nvPicPr>
        <p:blipFill>
          <a:blip r:embed="rId6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fx-VaporizingLiquid .jpg"/>
          <p:cNvPicPr/>
          <p:nvPr/>
        </p:nvPicPr>
        <p:blipFill>
          <a:blip r:embed="rId7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1714680" y="1000080"/>
            <a:ext cx="5786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lon (BCF)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Do not use now illegal, environmental haz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Ye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G:\OHS\FireQuiz\media\BCF.jpg"/>
          <p:cNvPicPr/>
          <p:nvPr/>
        </p:nvPicPr>
        <p:blipFill>
          <a:blip r:embed="rId5"/>
          <a:stretch/>
        </p:blipFill>
        <p:spPr>
          <a:xfrm>
            <a:off x="500040" y="5286240"/>
            <a:ext cx="83808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fx-water.jpg"/>
          <p:cNvPicPr/>
          <p:nvPr/>
        </p:nvPicPr>
        <p:blipFill>
          <a:blip r:embed="rId6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fx-VaporizingLiquid .jpg"/>
          <p:cNvPicPr/>
          <p:nvPr/>
        </p:nvPicPr>
        <p:blipFill>
          <a:blip r:embed="rId7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643120" y="1143000"/>
            <a:ext cx="6500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d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lon (BCF)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Do not use now illegal, environmental haz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ll Ye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G:\OHS\FireQuiz\media\BCF.jpg"/>
          <p:cNvPicPr/>
          <p:nvPr/>
        </p:nvPicPr>
        <p:blipFill>
          <a:blip r:embed="rId5"/>
          <a:stretch/>
        </p:blipFill>
        <p:spPr>
          <a:xfrm>
            <a:off x="500040" y="5286240"/>
            <a:ext cx="83808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fx-water.jpg"/>
          <p:cNvPicPr/>
          <p:nvPr/>
        </p:nvPicPr>
        <p:blipFill>
          <a:blip r:embed="rId6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fx-VaporizingLiquid .jpg"/>
          <p:cNvPicPr/>
          <p:nvPr/>
        </p:nvPicPr>
        <p:blipFill>
          <a:blip r:embed="rId7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extinguisher_guide.gif"/>
          <p:cNvPicPr/>
          <p:nvPr/>
        </p:nvPicPr>
        <p:blipFill>
          <a:blip r:embed="rId1"/>
          <a:stretch/>
        </p:blipFill>
        <p:spPr>
          <a:xfrm>
            <a:off x="1428840" y="0"/>
            <a:ext cx="6715080" cy="6643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Hose re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0" descr="HoseReel.jpg"/>
          <p:cNvPicPr/>
          <p:nvPr/>
        </p:nvPicPr>
        <p:blipFill>
          <a:blip r:embed="rId1"/>
          <a:stretch/>
        </p:blipFill>
        <p:spPr>
          <a:xfrm>
            <a:off x="642960" y="1428840"/>
            <a:ext cx="1571760" cy="19922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1"/>
          <p:cNvSpPr/>
          <p:nvPr/>
        </p:nvSpPr>
        <p:spPr>
          <a:xfrm>
            <a:off x="3143160" y="1643040"/>
            <a:ext cx="46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se reals are a familiar feature in public pla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se reals should only be used when there is no other way out,  the first  option in any fire  situation is to get out and call  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7200" y="192852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898989"/>
                </a:solidFill>
                <a:latin typeface="Calibri"/>
              </a:rPr>
              <a:t>In order to understand how fire extinguishers work, you first need to know a little bit about f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285920" y="40006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ire is a chemical reaction involving rapid oxidation (burning) of a fu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firetriangle_small.jpg"/>
          <p:cNvPicPr/>
          <p:nvPr/>
        </p:nvPicPr>
        <p:blipFill>
          <a:blip r:embed="rId1"/>
          <a:stretch/>
        </p:blipFill>
        <p:spPr>
          <a:xfrm>
            <a:off x="2970360" y="1857240"/>
            <a:ext cx="321624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071720" y="4857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our things must be present at the same time in order to produce fi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429000" y="192888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429000" y="1928880"/>
            <a:ext cx="528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- Sufficient oxygen must be present in the atmosphere surrounding the fuel for fire to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429000" y="192888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Sufficient oxygen must be present in the atmosphere surrounding the fuel for fire to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T-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429000" y="1928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Sufficient oxygen must be present in the atmosphere surrounding the fuel for fire to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HEAT-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hemical, exothermic reactio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- This reaction can occur when all three of the above elements are present in the proper conditions and proportions. Fire (rapid oxidisation) is the result of this chemical re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429000" y="1928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any combustible material - solid, liquid or gas. Most solids and liquids must vaporize before they will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Sufficient oxygen must be present in the atmosphere surrounding the fuel for fire to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T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hemical, exothermic reactio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This reaction can occur when all three of the above elements are present in the proper conditions and proportions. Fire (rapid oxidisation) is the result of this chemical re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6:41:37Z</dcterms:created>
  <dc:creator>Krelle</dc:creator>
  <dc:description/>
  <dc:language>en-US</dc:language>
  <cp:lastModifiedBy>Krelle</cp:lastModifiedBy>
  <dcterms:modified xsi:type="dcterms:W3CDTF">2008-02-16T11:09:46Z</dcterms:modified>
  <cp:revision>31</cp:revision>
  <dc:subject/>
  <dc:title>FIRE</dc:title>
</cp:coreProperties>
</file>