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B33-3403-40F0-A58A-0538B93E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82C-4BEC-462F-9E85-D8C406D7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596-2740-468A-BC1F-6639744F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1B4-1DF3-48CC-ADB1-C55D5AB0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273-F37F-49A3-86C8-2E35B32F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9BD-CFFC-4FE1-B3BE-3AE040ED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7FF-DA1B-4689-8186-7B202A5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5A6-BC44-415D-8841-D448C61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DF7-BB52-4990-B2D8-170DC092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F9D-C788-483E-AD3F-F7113EE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341-9BDD-4F58-94E7-813BE21C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9D9-E56D-47EB-BB55-C1E3C53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641-9CF1-48F2-B4BD-CBF148547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07152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ssembled 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erb Kr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upplementary resources collected from the World Wide Web thanks to the many provi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429000" y="1928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any combustible material - solid, liquid or gas. Most solids and liquids must vaporize before they will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Sufficient oxygen must be present in the atmosphere surrounding the fuel for fire to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T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hemical, exothermic reactio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This reaction can occur when all three of the above elements are present in the proper conditions and proportions. Fire (rapid oxidisation) is the result of this chemical re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928800" y="542916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ire extinguishers put out fire by taking away one or more elements of the fire triangle/tetrahedr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1143000" y="35002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res are categorized into classes according to the type of fuel or the dangers pres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should be used on fires involving flammable liquids, such as grease,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</a:t>
            </a:r>
            <a:r>
              <a:rPr b="0" lang="en-AU" sz="24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fx-class-D.gif"/>
          <p:cNvPicPr/>
          <p:nvPr/>
        </p:nvPicPr>
        <p:blipFill>
          <a:blip r:embed="rId4"/>
          <a:stretch/>
        </p:blipFill>
        <p:spPr>
          <a:xfrm>
            <a:off x="7715160" y="364320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fx-class-D.gif"/>
          <p:cNvPicPr/>
          <p:nvPr/>
        </p:nvPicPr>
        <p:blipFill>
          <a:blip r:embed="rId4"/>
          <a:stretch/>
        </p:blipFill>
        <p:spPr>
          <a:xfrm>
            <a:off x="7715160" y="3643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x-class-E.gif"/>
          <p:cNvPicPr/>
          <p:nvPr/>
        </p:nvPicPr>
        <p:blipFill>
          <a:blip r:embed="rId5"/>
          <a:stretch/>
        </p:blipFill>
        <p:spPr>
          <a:xfrm>
            <a:off x="285840" y="457200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lasses of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571760" y="1214280"/>
            <a:ext cx="600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A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will put out fires in ordinary combustibles, such as wood and pap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B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liquids, such as gasoline, oil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C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should be used on fires involving flammable g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D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are designed for use on flammable metals and are often specific for the type of metal in ques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E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Extinguishers are suitable for use when electricity is pre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ass F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tinguishers are suitable for cooking oils and fa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fx-class-A.gif"/>
          <p:cNvPicPr/>
          <p:nvPr/>
        </p:nvPicPr>
        <p:blipFill>
          <a:blip r:embed="rId1"/>
          <a:stretch/>
        </p:blipFill>
        <p:spPr>
          <a:xfrm>
            <a:off x="285840" y="1143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x-class-B.gif"/>
          <p:cNvPicPr/>
          <p:nvPr/>
        </p:nvPicPr>
        <p:blipFill>
          <a:blip r:embed="rId2"/>
          <a:stretch/>
        </p:blipFill>
        <p:spPr>
          <a:xfrm>
            <a:off x="7715160" y="19288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fx-class-C.gif"/>
          <p:cNvPicPr/>
          <p:nvPr/>
        </p:nvPicPr>
        <p:blipFill>
          <a:blip r:embed="rId3"/>
          <a:stretch/>
        </p:blipFill>
        <p:spPr>
          <a:xfrm>
            <a:off x="285840" y="28576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fx-class-D.gif"/>
          <p:cNvPicPr/>
          <p:nvPr/>
        </p:nvPicPr>
        <p:blipFill>
          <a:blip r:embed="rId4"/>
          <a:stretch/>
        </p:blipFill>
        <p:spPr>
          <a:xfrm>
            <a:off x="7715160" y="3643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fx-class-E.gif"/>
          <p:cNvPicPr/>
          <p:nvPr/>
        </p:nvPicPr>
        <p:blipFill>
          <a:blip r:embed="rId5"/>
          <a:stretch/>
        </p:blipFill>
        <p:spPr>
          <a:xfrm>
            <a:off x="285840" y="45720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fx-class-F.gif"/>
          <p:cNvPicPr/>
          <p:nvPr/>
        </p:nvPicPr>
        <p:blipFill>
          <a:blip r:embed="rId6"/>
          <a:stretch/>
        </p:blipFill>
        <p:spPr>
          <a:xfrm>
            <a:off x="7715160" y="542916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714680" y="100008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under air pressure) 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fx-water.jpg"/>
          <p:cNvPicPr/>
          <p:nvPr/>
        </p:nvPicPr>
        <p:blipFill>
          <a:blip r:embed="rId1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714680" y="100008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7f7f7f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f7f7f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6" descr="fx-powder.jpg"/>
          <p:cNvPicPr/>
          <p:nvPr/>
        </p:nvPicPr>
        <p:blipFill>
          <a:blip r:embed="rId1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fx-water.jpg"/>
          <p:cNvPicPr/>
          <p:nvPr/>
        </p:nvPicPr>
        <p:blipFill>
          <a:blip r:embed="rId2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192852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 order to understand how fire extinguishers work, you first need to know a little bit about f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714680" y="100008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5" descr="fx-foam.jpg"/>
          <p:cNvPicPr/>
          <p:nvPr/>
        </p:nvPicPr>
        <p:blipFill>
          <a:blip r:embed="rId1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fx-powder.jpg"/>
          <p:cNvPicPr/>
          <p:nvPr/>
        </p:nvPicPr>
        <p:blipFill>
          <a:blip r:embed="rId2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fx-water.jpg"/>
          <p:cNvPicPr/>
          <p:nvPr/>
        </p:nvPicPr>
        <p:blipFill>
          <a:blip r:embed="rId3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1714680" y="1000080"/>
            <a:ext cx="578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4" descr="fx-co2.jpg"/>
          <p:cNvPicPr/>
          <p:nvPr/>
        </p:nvPicPr>
        <p:blipFill>
          <a:blip r:embed="rId1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x-foam.jpg"/>
          <p:cNvPicPr/>
          <p:nvPr/>
        </p:nvPicPr>
        <p:blipFill>
          <a:blip r:embed="rId2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fx-powder.jpg"/>
          <p:cNvPicPr/>
          <p:nvPr/>
        </p:nvPicPr>
        <p:blipFill>
          <a:blip r:embed="rId3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fx-water.jpg"/>
          <p:cNvPicPr/>
          <p:nvPr/>
        </p:nvPicPr>
        <p:blipFill>
          <a:blip r:embed="rId4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714680" y="1000080"/>
            <a:ext cx="578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-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- 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fx-water.jpg"/>
          <p:cNvPicPr/>
          <p:nvPr/>
        </p:nvPicPr>
        <p:blipFill>
          <a:blip r:embed="rId5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714680" y="1000080"/>
            <a:ext cx="5786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- Class of Fire: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fx-water.jpg"/>
          <p:cNvPicPr/>
          <p:nvPr/>
        </p:nvPicPr>
        <p:blipFill>
          <a:blip r:embed="rId5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fx-VaporizingLiquid .jpg"/>
          <p:cNvPicPr/>
          <p:nvPr/>
        </p:nvPicPr>
        <p:blipFill>
          <a:blip r:embed="rId6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714680" y="1000080"/>
            <a:ext cx="5786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lon (BCF)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- Do not use now illegal, environmental haz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l Ye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G:\OHS\FireQuiz\media\BCF.jpg"/>
          <p:cNvPicPr/>
          <p:nvPr/>
        </p:nvPicPr>
        <p:blipFill>
          <a:blip r:embed="rId5"/>
          <a:stretch/>
        </p:blipFill>
        <p:spPr>
          <a:xfrm>
            <a:off x="500040" y="5286240"/>
            <a:ext cx="83808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fx-water.jpg"/>
          <p:cNvPicPr/>
          <p:nvPr/>
        </p:nvPicPr>
        <p:blipFill>
          <a:blip r:embed="rId6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fx-VaporizingLiquid .jpg"/>
          <p:cNvPicPr/>
          <p:nvPr/>
        </p:nvPicPr>
        <p:blipFill>
          <a:blip r:embed="rId7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1714680" y="1000080"/>
            <a:ext cx="5786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lon (BCF)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- Do not use now illegal, environmental haz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All Ye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G:\OHS\FireQuiz\media\BCF.jpg"/>
          <p:cNvPicPr/>
          <p:nvPr/>
        </p:nvPicPr>
        <p:blipFill>
          <a:blip r:embed="rId5"/>
          <a:stretch/>
        </p:blipFill>
        <p:spPr>
          <a:xfrm>
            <a:off x="500040" y="5286240"/>
            <a:ext cx="83808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fx-water.jpg"/>
          <p:cNvPicPr/>
          <p:nvPr/>
        </p:nvPicPr>
        <p:blipFill>
          <a:blip r:embed="rId6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fx-VaporizingLiquid .jpg"/>
          <p:cNvPicPr/>
          <p:nvPr/>
        </p:nvPicPr>
        <p:blipFill>
          <a:blip r:embed="rId7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ypes of extinguis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643120" y="1143000"/>
            <a:ext cx="6500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(under air pressu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ll Red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ry Chemical Powder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, B, C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d body White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am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 and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lue or Red with Blue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arbon Dioxide (CO2)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, B, (E) and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dith Black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et Chemica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 and F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uff or Red with Buff b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porizing Liqui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Class of Fire: 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, B, C and (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d with Yellow 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lon (BCF)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Do not use now illegal, environmental haz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ll Ye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3" descr="fx-wetchem.jpg"/>
          <p:cNvPicPr/>
          <p:nvPr/>
        </p:nvPicPr>
        <p:blipFill>
          <a:blip r:embed="rId1"/>
          <a:stretch/>
        </p:blipFill>
        <p:spPr>
          <a:xfrm>
            <a:off x="571680" y="385776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fx-co2.jpg"/>
          <p:cNvPicPr/>
          <p:nvPr/>
        </p:nvPicPr>
        <p:blipFill>
          <a:blip r:embed="rId2"/>
          <a:stretch/>
        </p:blipFill>
        <p:spPr>
          <a:xfrm>
            <a:off x="7529400" y="2948040"/>
            <a:ext cx="685800" cy="14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fx-foam.jpg"/>
          <p:cNvPicPr/>
          <p:nvPr/>
        </p:nvPicPr>
        <p:blipFill>
          <a:blip r:embed="rId3"/>
          <a:stretch/>
        </p:blipFill>
        <p:spPr>
          <a:xfrm>
            <a:off x="571680" y="2286000"/>
            <a:ext cx="545760" cy="1282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fx-powder.jpg"/>
          <p:cNvPicPr/>
          <p:nvPr/>
        </p:nvPicPr>
        <p:blipFill>
          <a:blip r:embed="rId4"/>
          <a:stretch/>
        </p:blipFill>
        <p:spPr>
          <a:xfrm>
            <a:off x="7643880" y="128592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G:\OHS\FireQuiz\media\BCF.jpg"/>
          <p:cNvPicPr/>
          <p:nvPr/>
        </p:nvPicPr>
        <p:blipFill>
          <a:blip r:embed="rId5"/>
          <a:stretch/>
        </p:blipFill>
        <p:spPr>
          <a:xfrm>
            <a:off x="500040" y="5286240"/>
            <a:ext cx="83808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fx-water.jpg"/>
          <p:cNvPicPr/>
          <p:nvPr/>
        </p:nvPicPr>
        <p:blipFill>
          <a:blip r:embed="rId6"/>
          <a:stretch/>
        </p:blipFill>
        <p:spPr>
          <a:xfrm>
            <a:off x="571680" y="642960"/>
            <a:ext cx="558720" cy="128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fx-VaporizingLiquid .jpg"/>
          <p:cNvPicPr/>
          <p:nvPr/>
        </p:nvPicPr>
        <p:blipFill>
          <a:blip r:embed="rId7"/>
          <a:stretch/>
        </p:blipFill>
        <p:spPr>
          <a:xfrm>
            <a:off x="7643880" y="4714920"/>
            <a:ext cx="558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extinguisher_guide.gif"/>
          <p:cNvPicPr/>
          <p:nvPr/>
        </p:nvPicPr>
        <p:blipFill>
          <a:blip r:embed="rId1"/>
          <a:stretch/>
        </p:blipFill>
        <p:spPr>
          <a:xfrm>
            <a:off x="1428840" y="0"/>
            <a:ext cx="6715080" cy="6643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Hose re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0" descr="HoseReel.jpg"/>
          <p:cNvPicPr/>
          <p:nvPr/>
        </p:nvPicPr>
        <p:blipFill>
          <a:blip r:embed="rId1"/>
          <a:stretch/>
        </p:blipFill>
        <p:spPr>
          <a:xfrm>
            <a:off x="642960" y="1428840"/>
            <a:ext cx="1571760" cy="19922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1"/>
          <p:cNvSpPr/>
          <p:nvPr/>
        </p:nvSpPr>
        <p:spPr>
          <a:xfrm>
            <a:off x="3143160" y="1643040"/>
            <a:ext cx="46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se reals are a familiar feature in public pla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se reals should only be used when there is no other way out,  the first  option in any fire  situation is to get out and call  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7200" y="192852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898989"/>
                </a:solidFill>
                <a:latin typeface="Calibri"/>
              </a:rPr>
              <a:t>In order to understand how fire extinguishers work, you first need to know a little bit about f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285920" y="40006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ire is a chemical reaction involving rapid oxidation (burning) of a fu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firetriangle_small.jpg"/>
          <p:cNvPicPr/>
          <p:nvPr/>
        </p:nvPicPr>
        <p:blipFill>
          <a:blip r:embed="rId1"/>
          <a:stretch/>
        </p:blipFill>
        <p:spPr>
          <a:xfrm>
            <a:off x="2970360" y="1857240"/>
            <a:ext cx="321624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071720" y="4857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our things must be present at the same time in order to produce fi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429000" y="192888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429000" y="1928880"/>
            <a:ext cx="528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- Sufficient oxygen must be present in the atmosphere surrounding the fuel for fire to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429000" y="192888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Sufficient oxygen must be present in the atmosphere surrounding the fuel for fire to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T-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429000" y="1928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any combustible material - solid, liquid or gas. Most solids and liquids must vaporize before they will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- Sufficient oxygen must be present in the atmosphere surrounding the fuel for fire to bur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a6a6a6"/>
                </a:solidFill>
                <a:latin typeface="Calibri"/>
              </a:rPr>
              <a:t>HEAT-</a:t>
            </a:r>
            <a:r>
              <a:rPr b="0" lang="en-AU" sz="1800" spc="-1" strike="noStrike">
                <a:solidFill>
                  <a:srgbClr val="a6a6a6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hemical, exothermic reactio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- This reaction can occur when all three of the above elements are present in the proper conditions and proportions. Fire (rapid oxidisation) is the result of this chemical re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he Fire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firetriangle_small.jpg"/>
          <p:cNvPicPr/>
          <p:nvPr/>
        </p:nvPicPr>
        <p:blipFill>
          <a:blip r:embed="rId1"/>
          <a:stretch/>
        </p:blipFill>
        <p:spPr>
          <a:xfrm>
            <a:off x="214200" y="2428920"/>
            <a:ext cx="3214800" cy="2811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429000" y="1928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UE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any combustible material - solid, liquid or gas. Most solids and liquids must vaporize before they will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Sufficient oxygen must be present in the atmosphere surrounding the fuel for fire to bur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T</a:t>
            </a: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Sufficient heat energy must be applied to raise the fuel to it's ignition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hemical, exothermic reaction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- This reaction can occur when all three of the above elements are present in the proper conditions and proportions. Fire (rapid oxidisation) is the result of this chemical re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6:41:37Z</dcterms:created>
  <dc:creator>Krelle</dc:creator>
  <dc:description/>
  <dc:language>en-US</dc:language>
  <cp:lastModifiedBy>Krelle</cp:lastModifiedBy>
  <dcterms:modified xsi:type="dcterms:W3CDTF">2008-02-16T11:09:46Z</dcterms:modified>
  <cp:revision>31</cp:revision>
  <dc:subject/>
  <dc:title>FIRE</dc:title>
</cp:coreProperties>
</file>